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breeze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6DA-4C24-4C43-9876-8462D454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8DC4-0694-4024-8478-9C012DEC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4A6-8041-4D01-A480-75E79A1B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C38-FEDB-4BC0-AA94-145B45E7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EE7-252F-408A-9A77-C5B1EF5B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A4D-9FCF-4DF7-A56C-7792D5D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4FCB-B727-4A41-B997-62D37B59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9902-8B54-4341-89C6-F8945C0E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834A-A121-45AF-A455-4E9461B6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9E0-C14E-48FA-BFFD-E5B2ABFE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0974-55C4-4C14-B46E-EBEED17F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C80-088C-4458-A69F-D1CB9596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6659-14A9-424E-B24D-59F6A558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0A7F-32E6-4530-856F-D9F3C580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3C3-3CC9-4375-9F0A-1B111883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B28-27C8-48F2-997A-1E27D5E5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B263-0C24-4611-B122-9B82BB21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32F-44FC-4DED-B381-1A7A645F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14D-7C2D-40C6-8FF7-142C4E78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F744-7C0D-476A-A11F-CE247861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EE98-5145-4447-B498-238ECC67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C7F-304A-4A00-B4B1-53FE9CB3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785C-32A7-4A1E-84FE-BBF025F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523-32E7-4D68-9BD6-A72E5C0E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3974-D140-4E6C-B1C0-8FFAC73AB74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F6F-10DE-4BE3-9894-12BD50D1F8B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Edwardian Script ITC"/>
              </a:rPr>
              <a:t>New Nation Project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Black"/>
              </a:rPr>
              <a:t>By:</a:t>
            </a:r>
            <a:r>
              <a:rPr b="0" lang="en-US" sz="5400" spc="-1" strike="noStrike">
                <a:solidFill>
                  <a:srgbClr val="00ff00"/>
                </a:solidFill>
                <a:latin typeface="Edwardian Script ITC"/>
              </a:rPr>
              <a:t> Ja’Lisha Urquhar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dwardian Script ITC"/>
              </a:rPr>
              <a:t>George Washington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our first presid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important because he fought in one of 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fought in the revolution war and he was the continental</a:t>
            </a:r>
            <a:r>
              <a:rPr b="0" lang="en-US" sz="4000" spc="-1" strike="noStrike">
                <a:solidFill>
                  <a:srgbClr val="ffcc00"/>
                </a:solidFill>
                <a:latin typeface="Edwardian Script ITC"/>
              </a:rPr>
              <a:t>  arm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is plans were initiated for development t of the national capital in Washington D.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The federal court system was established in his term of off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848720" y="55627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breeze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Edwardian Script ITC"/>
              </a:rPr>
              <a:t>John Adams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our second preside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the only one from the first five president that was not  from Virgini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ran for one term A two part  system was emerged during his term of off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Edwardian Script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Edwardian Script ITC"/>
              </a:rPr>
              <a:t>He was a delegate for the first and second continental congre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2224080" cy="1820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6:00:31Z</dcterms:created>
  <dc:creator>Jalisha.urquhart</dc:creator>
  <dc:description/>
  <dc:language>en-US</dc:language>
  <cp:lastModifiedBy>Jalisha.urquhart</cp:lastModifiedBy>
  <dcterms:modified xsi:type="dcterms:W3CDTF">2008-04-25T17:06:50Z</dcterms:modified>
  <cp:revision>2</cp:revision>
  <dc:subject/>
  <dc:title>Slide 1</dc:title>
</cp:coreProperties>
</file>